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409-D269-4F87-8C52-4A77C972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FFB-7F51-4577-B17D-7598A8A1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BF6-909D-4B74-863A-D1F73125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FEA-F614-4ECE-B798-6A43522C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8BCF-6E4A-4F8F-B08B-F2508C60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D209-035F-4B1D-80E4-F1ECB35B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8B4C-430B-411F-A808-7CF11A9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2593-1AFC-4FAB-9E67-AC84424B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C563-6C71-45E7-B6D9-BEDDCF32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99FB-73DA-49B9-8F7C-D64F8422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64E9-1037-403E-8767-D2DD957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56D-04B0-48EE-8444-EBBB2F7C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BF39-90B1-465A-A8E0-B579E04A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9FE6-ADEE-4ED3-8938-8D568E38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9CF3-4B2B-410D-BF33-EFE34863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3A86-ADA9-48A9-A0CA-6BEB6DD8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434F-8DB0-475F-8320-7228D82A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ECF-DBC5-4B14-8FDA-3D5A8497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559-E5E4-425E-BF6E-E7050545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9E4-CA94-458E-B7A0-EB83B19B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A87-47EC-4432-84CD-88C57FD6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C79-ECF7-469D-B15E-D5B25952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94C-D386-4B16-8858-2CEF5DD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183-AF99-4AAC-8231-30AA84A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BFD7-0FB8-46D3-BD08-F649B53092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CF1B-808C-4CC4-B2C5-3F152C002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ceanpacific.com/" TargetMode="External"/><Relationship Id="rId3" Type="http://schemas.openxmlformats.org/officeDocument/2006/relationships/hyperlink" Target="http://www.walmart.com/cp/op/961919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2120" y="4648320"/>
            <a:ext cx="4971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ere am I wearing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Desiree Rodriguez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Ocean Pacific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Ocean pacific is made in China and in Indon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350532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Arial"/>
              </a:rPr>
              <a:t>Wal-Mar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As I was doing my research there wasn’t many things about Ocean Pacific but it did bring me to Wal-M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I found out that Wal-Mart’s suppliers were caught more than once violating labor and human rights my using sweatshop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Sweatshop labor is when employees are not being treated right, don’t have equal rights at their job, work too many hours and don’t get paid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Bangladesh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The Bangladeshi Garment Plant Harvest Rich, employed about 200 to 300 children to sew clothes for puma, JC Penny, Wal-Mart, and H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On October of 2006, The National Labor Committee reported children being beaten, suffering from exhaustions, working mandatory hours a day, and being paid as little as 6 ½ cents an hour but more than 100 child workers were f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0" y="4267080"/>
            <a:ext cx="35812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National Labor Committe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The NLC is demanding U.S companies sourcing from the factory to supply each fired child worker with a monthly payment to release stress on their families and cover essential school expenses for text books, supplies, uniforms, and shoes so the children may return to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4267080"/>
            <a:ext cx="35812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Go Green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People are trying to shop with Go Green to pressure Wal-Mart to reduce its environmental impact and so they can respect it’s work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Go Green means shopping locally at hardware stores/ house ware stores that offer low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43434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Citation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oceanpacific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walmart.com/cp/op/9619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http://www.walmart.com/browse/juniors/op/_/N-34elzzyztr72?ic=48_0&amp;path=0%3A5438%3a961919&amp;ref=181605.184557+500500.4292807150&amp;search_sort=6&amp;selected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Greenameric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Hhtp://www.greenamerica.org/programs/responsibleshopper/learn_hub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http://www.greenamerica.org/programs/responsibleshopper/company.cfm?id=3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http://www.greenamerica.org/programs/responsibleshopper/live/bigbox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5:24:21Z</dcterms:created>
  <dc:creator>Administrator</dc:creator>
  <dc:description/>
  <dc:language>en-US</dc:language>
  <cp:lastModifiedBy>Administrator</cp:lastModifiedBy>
  <dcterms:modified xsi:type="dcterms:W3CDTF">2010-11-10T15:39:24Z</dcterms:modified>
  <cp:revision>3</cp:revision>
  <dc:subject/>
  <dc:title>Slide 1</dc:title>
</cp:coreProperties>
</file>